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1.wmf" ContentType="image/x-wmf"/>
  <Override PartName="/ppt/media/image3.png" ContentType="image/png"/>
  <Override PartName="/ppt/media/image17.jpeg" ContentType="image/jpeg"/>
  <Override PartName="/ppt/media/image26.png" ContentType="image/png"/>
  <Override PartName="/ppt/media/image7.gif" ContentType="image/gif"/>
  <Override PartName="/ppt/media/image9.wmf" ContentType="image/x-wmf"/>
  <Override PartName="/ppt/media/image6.gif" ContentType="image/gif"/>
  <Override PartName="/ppt/media/image10.wmf" ContentType="image/x-wmf"/>
  <Override PartName="/ppt/media/image2.png" ContentType="image/png"/>
  <Override PartName="/ppt/media/image25.png" ContentType="image/png"/>
  <Override PartName="/ppt/media/image5.wmf" ContentType="image/x-wmf"/>
  <Override PartName="/ppt/media/image23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6.wmf" ContentType="image/x-wmf"/>
  <Override PartName="/ppt/media/image14.jpeg" ContentType="image/jpeg"/>
  <Override PartName="/ppt/media/image24.png" ContentType="image/png"/>
  <Override PartName="/ppt/media/image1.png" ContentType="image/png"/>
  <Override PartName="/ppt/media/image4.gif" ContentType="image/gi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AD4E-6FA2-4AB4-9459-7278C210C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294B-568E-4FB2-859C-959A4A274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CAFA-BC2B-4D40-877E-43E6CB9F0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1432-E70C-42B8-AF6E-027D8F1EB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9EF6A-0FC0-4B3C-AA8B-EBFDD4479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8E4B0-EBFE-4A42-B676-1859F7B3F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F962F-7853-4273-BC9F-1C95438D6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88D92-E8F8-422E-B3EA-8D1124CF8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AA6C3-28EE-40EF-8D17-9B72E4A3F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DCD27-D994-47EE-9BAD-57A9F432A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5C2D0-8F05-4C08-9D1F-487AAD64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E953-F790-4777-8851-D25E0EF2A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A26CD-DFF1-4FF6-8782-848DFDFC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70EB5-0F2D-4E5F-A663-FCF3A041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66548-1527-46C1-B55D-B8AC27C96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16A32-32AA-41DD-8C24-FF29DAC30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03DDB-D011-48AD-8454-72BE10E4A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A0EC-FA15-4105-B07A-8681D0D78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BBC3-D24C-490D-9361-8A07B336C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CA4E-A15E-425B-9DC8-8F0D5D4D9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8DEB-DD4A-402E-BE99-7B36802F3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65D3-DA29-4AFF-B44D-46620E8D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9DB3-A7A2-45E9-8178-0B8E26DBE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166A-D321-43DA-AE3D-75849923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B05B9-3BAD-4D41-A1BC-8B5640F6DD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ffcc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E0C08-EB7D-4983-A691-19A2F3AD8E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6.gif"/><Relationship Id="rId3" Type="http://schemas.openxmlformats.org/officeDocument/2006/relationships/slide" Target="slide13.xml"/><Relationship Id="rId4" Type="http://schemas.openxmlformats.org/officeDocument/2006/relationships/image" Target="../media/image7.gif"/><Relationship Id="rId5" Type="http://schemas.openxmlformats.org/officeDocument/2006/relationships/slide" Target="slide12.xml"/><Relationship Id="rId6" Type="http://schemas.openxmlformats.org/officeDocument/2006/relationships/image" Target="../media/image9.wmf"/><Relationship Id="rId7" Type="http://schemas.openxmlformats.org/officeDocument/2006/relationships/slide" Target="slide13.xml"/><Relationship Id="rId8" Type="http://schemas.openxmlformats.org/officeDocument/2006/relationships/image" Target="../media/image8.jpeg"/><Relationship Id="rId9" Type="http://schemas.openxmlformats.org/officeDocument/2006/relationships/oleObject" Target="../embeddings/oleObject1.bin"/><Relationship Id="rId10" Type="http://schemas.openxmlformats.org/officeDocument/2006/relationships/slide" Target="slide13.xml"/><Relationship Id="rId11" Type="http://schemas.openxmlformats.org/officeDocument/2006/relationships/image" Target="../media/image10.wmf"/><Relationship Id="rId12" Type="http://schemas.openxmlformats.org/officeDocument/2006/relationships/slide" Target="slide13.xml"/><Relationship Id="rId13" Type="http://schemas.openxmlformats.org/officeDocument/2006/relationships/image" Target="../media/image5.wmf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6.gif"/><Relationship Id="rId3" Type="http://schemas.openxmlformats.org/officeDocument/2006/relationships/slide" Target="slide16.xml"/><Relationship Id="rId4" Type="http://schemas.openxmlformats.org/officeDocument/2006/relationships/image" Target="../media/image7.gif"/><Relationship Id="rId5" Type="http://schemas.openxmlformats.org/officeDocument/2006/relationships/slide" Target="slide12.xml"/><Relationship Id="rId6" Type="http://schemas.openxmlformats.org/officeDocument/2006/relationships/image" Target="../media/image9.wmf"/><Relationship Id="rId7" Type="http://schemas.openxmlformats.org/officeDocument/2006/relationships/slide" Target="slide15.xml"/><Relationship Id="rId8" Type="http://schemas.openxmlformats.org/officeDocument/2006/relationships/image" Target="../media/image8.jpeg"/><Relationship Id="rId9" Type="http://schemas.openxmlformats.org/officeDocument/2006/relationships/oleObject" Target="../embeddings/oleObject1.bin"/><Relationship Id="rId10" Type="http://schemas.openxmlformats.org/officeDocument/2006/relationships/slide" Target="slide16.xml"/><Relationship Id="rId11" Type="http://schemas.openxmlformats.org/officeDocument/2006/relationships/image" Target="../media/image10.wmf"/><Relationship Id="rId12" Type="http://schemas.openxmlformats.org/officeDocument/2006/relationships/slide" Target="slide16.xml"/><Relationship Id="rId13" Type="http://schemas.openxmlformats.org/officeDocument/2006/relationships/image" Target="../media/image5.wmf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6.gif"/><Relationship Id="rId3" Type="http://schemas.openxmlformats.org/officeDocument/2006/relationships/slide" Target="slide19.xml"/><Relationship Id="rId4" Type="http://schemas.openxmlformats.org/officeDocument/2006/relationships/image" Target="../media/image7.gif"/><Relationship Id="rId5" Type="http://schemas.openxmlformats.org/officeDocument/2006/relationships/slide" Target="slide19.xml"/><Relationship Id="rId6" Type="http://schemas.openxmlformats.org/officeDocument/2006/relationships/image" Target="../media/image9.wmf"/><Relationship Id="rId7" Type="http://schemas.openxmlformats.org/officeDocument/2006/relationships/slide" Target="slide19.xml"/><Relationship Id="rId8" Type="http://schemas.openxmlformats.org/officeDocument/2006/relationships/image" Target="../media/image8.jpeg"/><Relationship Id="rId9" Type="http://schemas.openxmlformats.org/officeDocument/2006/relationships/oleObject" Target="../embeddings/oleObject1.bin"/><Relationship Id="rId10" Type="http://schemas.openxmlformats.org/officeDocument/2006/relationships/slide" Target="slide19.xml"/><Relationship Id="rId11" Type="http://schemas.openxmlformats.org/officeDocument/2006/relationships/image" Target="../media/image10.wmf"/><Relationship Id="rId12" Type="http://schemas.openxmlformats.org/officeDocument/2006/relationships/slide" Target="slide19.xml"/><Relationship Id="rId13" Type="http://schemas.openxmlformats.org/officeDocument/2006/relationships/image" Target="../media/image5.wmf"/><Relationship Id="rId1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jpeg"/><Relationship Id="rId5" Type="http://schemas.openxmlformats.org/officeDocument/2006/relationships/image" Target="../media/image9.wmf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9.wmf"/><Relationship Id="rId4" Type="http://schemas.openxmlformats.org/officeDocument/2006/relationships/image" Target="../media/image8.jpeg"/><Relationship Id="rId5" Type="http://schemas.openxmlformats.org/officeDocument/2006/relationships/oleObject" Target="../embeddings/oleObject1.bin"/><Relationship Id="rId6" Type="http://schemas.openxmlformats.org/officeDocument/2006/relationships/slide" Target="slide22.xml"/><Relationship Id="rId7" Type="http://schemas.openxmlformats.org/officeDocument/2006/relationships/image" Target="../media/image10.wmf"/><Relationship Id="rId8" Type="http://schemas.openxmlformats.org/officeDocument/2006/relationships/slide" Target="slide21.xml"/><Relationship Id="rId9" Type="http://schemas.openxmlformats.org/officeDocument/2006/relationships/image" Target="../media/image5.wmf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9.wmf"/><Relationship Id="rId5" Type="http://schemas.openxmlformats.org/officeDocument/2006/relationships/image" Target="../media/image6.gif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5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22.pn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23.png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24.png"/><Relationship Id="rId1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1.jpeg"/><Relationship Id="rId4" Type="http://schemas.openxmlformats.org/officeDocument/2006/relationships/image" Target="../media/image20.jpeg"/><Relationship Id="rId5" Type="http://schemas.openxmlformats.org/officeDocument/2006/relationships/image" Target="../media/image19.jpeg"/><Relationship Id="rId6" Type="http://schemas.openxmlformats.org/officeDocument/2006/relationships/image" Target="../media/image18.jpeg"/><Relationship Id="rId7" Type="http://schemas.openxmlformats.org/officeDocument/2006/relationships/image" Target="../media/image17.jpeg"/><Relationship Id="rId8" Type="http://schemas.openxmlformats.org/officeDocument/2006/relationships/image" Target="../media/image15.jpe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24.png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23.png"/><Relationship Id="rId13" Type="http://schemas.openxmlformats.org/officeDocument/2006/relationships/image" Target="../media/image16.wmf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1828800" y="2057400"/>
            <a:ext cx="5791320" cy="394956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0" spc="-1" strike="noStrike">
                <a:solidFill>
                  <a:srgbClr val="cc6600"/>
                </a:solidFill>
                <a:latin typeface="Times New Roman"/>
              </a:rPr>
              <a:t>Quel temps fait-il?</a:t>
            </a:r>
            <a:endParaRPr b="0" i="1" lang="en-US" sz="6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2870280" cy="295272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4191120" y="243828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Verdana"/>
              </a:rPr>
              <a:t>Il fait chau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339966"/>
                </a:solidFill>
                <a:latin typeface="Times New Roman"/>
              </a:rPr>
              <a:t>Quel temps fait-il?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91520" y="4800600"/>
            <a:ext cx="1401480" cy="15080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181480" y="4648320"/>
            <a:ext cx="1113120" cy="180648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80880" y="2057400"/>
            <a:ext cx="1992600" cy="189720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62120" y="4800600"/>
            <a:ext cx="2590560" cy="173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7" name=""/>
          <p:cNvGraphicFramePr/>
          <p:nvPr/>
        </p:nvGraphicFramePr>
        <p:xfrm>
          <a:off x="3657600" y="1828800"/>
          <a:ext cx="1947960" cy="2286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68" name="" descr="">
                    <a:hlinkClick r:id="rId10" action="ppaction://hlinksldjump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657600" y="1828800"/>
                    <a:ext cx="194796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69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858000" y="1752480"/>
            <a:ext cx="1676520" cy="12384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 txBox="1"/>
          <p:nvPr/>
        </p:nvSpPr>
        <p:spPr>
          <a:xfrm>
            <a:off x="304920" y="3505320"/>
            <a:ext cx="46656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aiandra GD"/>
              </a:rPr>
              <a:t>A</a:t>
            </a:r>
            <a:endParaRPr b="1" lang="en-US" sz="5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aiandra GD"/>
              <a:ea typeface="Maiandra GD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52280" y="5181480"/>
            <a:ext cx="466920" cy="8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aiandra GD"/>
              </a:rPr>
              <a:t>D</a:t>
            </a:r>
            <a:endParaRPr b="1" lang="en-US" sz="5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aiandra GD"/>
              <a:ea typeface="Maiandra GD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858000" y="4419720"/>
            <a:ext cx="46656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aiandra GD"/>
              </a:rPr>
              <a:t>F</a:t>
            </a:r>
            <a:endParaRPr b="1" lang="en-US" sz="5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aiandra GD"/>
              <a:ea typeface="Maiandra GD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0" y="4724280"/>
            <a:ext cx="466560" cy="8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aiandra GD"/>
              </a:rPr>
              <a:t>E</a:t>
            </a:r>
            <a:endParaRPr b="1" lang="en-US" sz="5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aiandra GD"/>
              <a:ea typeface="Maiandra GD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477120" y="2590920"/>
            <a:ext cx="46656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aiandra GD"/>
              </a:rPr>
              <a:t>C</a:t>
            </a:r>
            <a:endParaRPr b="1" lang="en-US" sz="5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aiandra GD"/>
              <a:ea typeface="Maiandra GD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2971800" y="2590920"/>
            <a:ext cx="46656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aiandra GD"/>
              </a:rPr>
              <a:t>B</a:t>
            </a:r>
            <a:endParaRPr b="1" lang="en-US" sz="5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aiandra GD"/>
              <a:ea typeface="Maiandra GD"/>
            </a:endParaRPr>
          </a:p>
        </p:txBody>
      </p:sp>
      <p:sp>
        <p:nvSpPr>
          <p:cNvPr id="376" name=""/>
          <p:cNvSpPr/>
          <p:nvPr/>
        </p:nvSpPr>
        <p:spPr>
          <a:xfrm>
            <a:off x="380880" y="1066680"/>
            <a:ext cx="449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cc6600"/>
                </a:solidFill>
                <a:latin typeface="Times New Roman"/>
              </a:rPr>
              <a:t>Il y a du soleil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 rot="21082200">
            <a:off x="990720" y="1828800"/>
            <a:ext cx="7010280" cy="28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Bravo!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8" name=""/>
          <p:cNvSpPr/>
          <p:nvPr/>
        </p:nvSpPr>
        <p:spPr>
          <a:xfrm>
            <a:off x="838080" y="5486400"/>
            <a:ext cx="990720" cy="762120"/>
          </a:xfrm>
          <a:custGeom>
            <a:avLst/>
            <a:gdLst>
              <a:gd name="textAreaLeft" fmla="*/ 49320 w 990720"/>
              <a:gd name="textAreaRight" fmla="*/ 941400 w 9907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8076" h="21600">
                <a:moveTo>
                  <a:pt x="0" y="0"/>
                </a:moveTo>
                <a:lnTo>
                  <a:pt x="28076" y="0"/>
                </a:lnTo>
                <a:lnTo>
                  <a:pt x="28076" y="21600"/>
                </a:lnTo>
                <a:lnTo>
                  <a:pt x="0" y="21600"/>
                </a:lnTo>
                <a:close/>
              </a:path>
              <a:path fill="lightenLess" w="28076" h="21600">
                <a:moveTo>
                  <a:pt x="0" y="0"/>
                </a:moveTo>
                <a:lnTo>
                  <a:pt x="28076" y="0"/>
                </a:lnTo>
                <a:lnTo>
                  <a:pt x="26676" y="1400"/>
                </a:lnTo>
                <a:lnTo>
                  <a:pt x="1400" y="1400"/>
                </a:lnTo>
                <a:close/>
              </a:path>
              <a:path fill="darken" w="28076" h="21600">
                <a:moveTo>
                  <a:pt x="28076" y="0"/>
                </a:moveTo>
                <a:lnTo>
                  <a:pt x="28076" y="21600"/>
                </a:lnTo>
                <a:lnTo>
                  <a:pt x="26676" y="20200"/>
                </a:lnTo>
                <a:lnTo>
                  <a:pt x="26676" y="1400"/>
                </a:lnTo>
                <a:close/>
              </a:path>
              <a:path fill="darkenLess" w="28076" h="21600">
                <a:moveTo>
                  <a:pt x="28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6" y="20200"/>
                </a:lnTo>
                <a:close/>
              </a:path>
              <a:path fill="lighten" w="28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6" h="21600">
                <a:moveTo>
                  <a:pt x="7031" y="10800"/>
                </a:moveTo>
                <a:lnTo>
                  <a:pt x="21044" y="3794"/>
                </a:lnTo>
                <a:lnTo>
                  <a:pt x="21044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2133720" y="3429000"/>
            <a:ext cx="4276440" cy="16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Essaie encore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4419720" y="1925640"/>
            <a:ext cx="3562200" cy="239220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609480" y="548640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9188" y="10800"/>
                </a:moveTo>
                <a:lnTo>
                  <a:pt x="23201" y="3794"/>
                </a:lnTo>
                <a:lnTo>
                  <a:pt x="23201" y="17806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339966"/>
                </a:solidFill>
                <a:latin typeface="Times New Roman"/>
              </a:rPr>
              <a:t>Quel temps fait-il?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91520" y="4800600"/>
            <a:ext cx="1401480" cy="150804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181480" y="4648320"/>
            <a:ext cx="1113120" cy="180648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80880" y="2057400"/>
            <a:ext cx="1992600" cy="189720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62120" y="4800600"/>
            <a:ext cx="2590560" cy="173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7" name=""/>
          <p:cNvGraphicFramePr/>
          <p:nvPr/>
        </p:nvGraphicFramePr>
        <p:xfrm>
          <a:off x="3657600" y="1828800"/>
          <a:ext cx="1947960" cy="2286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88" name="" descr="">
                    <a:hlinkClick r:id="rId10" action="ppaction://hlinksldjump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657600" y="1828800"/>
                    <a:ext cx="194796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89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858000" y="1752480"/>
            <a:ext cx="1676520" cy="123840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 txBox="1"/>
          <p:nvPr/>
        </p:nvSpPr>
        <p:spPr>
          <a:xfrm>
            <a:off x="304920" y="3505320"/>
            <a:ext cx="46656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aiandra GD"/>
              </a:rPr>
              <a:t>A</a:t>
            </a:r>
            <a:endParaRPr b="1" lang="en-US" sz="5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aiandra GD"/>
              <a:ea typeface="Maiandra GD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152280" y="5181480"/>
            <a:ext cx="466920" cy="8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aiandra GD"/>
              </a:rPr>
              <a:t>D</a:t>
            </a:r>
            <a:endParaRPr b="1" lang="en-US" sz="5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aiandra GD"/>
              <a:ea typeface="Maiandra GD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858000" y="4419720"/>
            <a:ext cx="46656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aiandra GD"/>
              </a:rPr>
              <a:t>F</a:t>
            </a:r>
            <a:endParaRPr b="1" lang="en-US" sz="5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aiandra GD"/>
              <a:ea typeface="Maiandra GD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0" y="4724280"/>
            <a:ext cx="466560" cy="8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aiandra GD"/>
              </a:rPr>
              <a:t>E</a:t>
            </a:r>
            <a:endParaRPr b="1" lang="en-US" sz="5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aiandra GD"/>
              <a:ea typeface="Maiandra GD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477120" y="2590920"/>
            <a:ext cx="46656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aiandra GD"/>
              </a:rPr>
              <a:t>C</a:t>
            </a:r>
            <a:endParaRPr b="1" lang="en-US" sz="5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aiandra GD"/>
              <a:ea typeface="Maiandra GD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2971800" y="2590920"/>
            <a:ext cx="46656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aiandra GD"/>
              </a:rPr>
              <a:t>B</a:t>
            </a:r>
            <a:endParaRPr b="1" lang="en-US" sz="5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aiandra GD"/>
              <a:ea typeface="Maiandra GD"/>
            </a:endParaRPr>
          </a:p>
        </p:txBody>
      </p:sp>
      <p:sp>
        <p:nvSpPr>
          <p:cNvPr id="396" name=""/>
          <p:cNvSpPr/>
          <p:nvPr/>
        </p:nvSpPr>
        <p:spPr>
          <a:xfrm>
            <a:off x="380880" y="1066680"/>
            <a:ext cx="449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cc6600"/>
                </a:solidFill>
                <a:latin typeface="Times New Roman"/>
              </a:rPr>
              <a:t>Il y a des orages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 rot="21082200">
            <a:off x="990720" y="1828800"/>
            <a:ext cx="7010280" cy="28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Bravo!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8" name=""/>
          <p:cNvSpPr/>
          <p:nvPr/>
        </p:nvSpPr>
        <p:spPr>
          <a:xfrm>
            <a:off x="7620120" y="5638680"/>
            <a:ext cx="990360" cy="762120"/>
          </a:xfrm>
          <a:custGeom>
            <a:avLst/>
            <a:gdLst>
              <a:gd name="textAreaLeft" fmla="*/ 49320 w 990360"/>
              <a:gd name="textAreaRight" fmla="*/ 941040 w 9903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8066" h="21600">
                <a:moveTo>
                  <a:pt x="0" y="0"/>
                </a:moveTo>
                <a:lnTo>
                  <a:pt x="28066" y="0"/>
                </a:lnTo>
                <a:lnTo>
                  <a:pt x="28066" y="21600"/>
                </a:lnTo>
                <a:lnTo>
                  <a:pt x="0" y="21600"/>
                </a:lnTo>
                <a:close/>
              </a:path>
              <a:path fill="lightenLess" w="28066" h="21600">
                <a:moveTo>
                  <a:pt x="0" y="0"/>
                </a:moveTo>
                <a:lnTo>
                  <a:pt x="28066" y="0"/>
                </a:lnTo>
                <a:lnTo>
                  <a:pt x="26666" y="1400"/>
                </a:lnTo>
                <a:lnTo>
                  <a:pt x="1400" y="1400"/>
                </a:lnTo>
                <a:close/>
              </a:path>
              <a:path fill="darken" w="28066" h="21600">
                <a:moveTo>
                  <a:pt x="28066" y="0"/>
                </a:moveTo>
                <a:lnTo>
                  <a:pt x="28066" y="21600"/>
                </a:lnTo>
                <a:lnTo>
                  <a:pt x="26666" y="20200"/>
                </a:lnTo>
                <a:lnTo>
                  <a:pt x="26666" y="1400"/>
                </a:lnTo>
                <a:close/>
              </a:path>
              <a:path fill="darkenLess" w="28066" h="21600">
                <a:moveTo>
                  <a:pt x="28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66" y="20200"/>
                </a:lnTo>
                <a:close/>
              </a:path>
              <a:path fill="lighten" w="28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66" h="21600">
                <a:moveTo>
                  <a:pt x="7026" y="3794"/>
                </a:moveTo>
                <a:lnTo>
                  <a:pt x="21039" y="10800"/>
                </a:lnTo>
                <a:lnTo>
                  <a:pt x="7026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2133720" y="3429000"/>
            <a:ext cx="4276440" cy="16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Essaie encore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4419720" y="1925640"/>
            <a:ext cx="3562200" cy="23922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685800" y="5410080"/>
            <a:ext cx="1447920" cy="838440"/>
          </a:xfrm>
          <a:custGeom>
            <a:avLst/>
            <a:gdLst>
              <a:gd name="textAreaLeft" fmla="*/ 54360 w 1447920"/>
              <a:gd name="textAreaRight" fmla="*/ 1393560 w 14479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7295" h="21600">
                <a:moveTo>
                  <a:pt x="0" y="0"/>
                </a:moveTo>
                <a:lnTo>
                  <a:pt x="37295" y="0"/>
                </a:lnTo>
                <a:lnTo>
                  <a:pt x="37295" y="21600"/>
                </a:lnTo>
                <a:lnTo>
                  <a:pt x="0" y="21600"/>
                </a:lnTo>
                <a:close/>
              </a:path>
              <a:path fill="lightenLess" w="37295" h="21600">
                <a:moveTo>
                  <a:pt x="0" y="0"/>
                </a:moveTo>
                <a:lnTo>
                  <a:pt x="37295" y="0"/>
                </a:lnTo>
                <a:lnTo>
                  <a:pt x="35895" y="1400"/>
                </a:lnTo>
                <a:lnTo>
                  <a:pt x="1400" y="1400"/>
                </a:lnTo>
                <a:close/>
              </a:path>
              <a:path fill="darken" w="37295" h="21600">
                <a:moveTo>
                  <a:pt x="37295" y="0"/>
                </a:moveTo>
                <a:lnTo>
                  <a:pt x="37295" y="21600"/>
                </a:lnTo>
                <a:lnTo>
                  <a:pt x="35895" y="20200"/>
                </a:lnTo>
                <a:lnTo>
                  <a:pt x="35895" y="1400"/>
                </a:lnTo>
                <a:close/>
              </a:path>
              <a:path fill="darkenLess" w="37295" h="21600">
                <a:moveTo>
                  <a:pt x="372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895" y="20200"/>
                </a:lnTo>
                <a:close/>
              </a:path>
              <a:path fill="lighten" w="372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295" h="21600">
                <a:moveTo>
                  <a:pt x="11641" y="10800"/>
                </a:moveTo>
                <a:lnTo>
                  <a:pt x="25654" y="3794"/>
                </a:lnTo>
                <a:lnTo>
                  <a:pt x="25654" y="17806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339966"/>
                </a:solidFill>
                <a:latin typeface="Times New Roman"/>
              </a:rPr>
              <a:t>Quel temps fait-il?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40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91520" y="4800600"/>
            <a:ext cx="1401480" cy="150804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181480" y="4648320"/>
            <a:ext cx="1113120" cy="180648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80880" y="2057400"/>
            <a:ext cx="1992600" cy="189720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62120" y="4800600"/>
            <a:ext cx="2590560" cy="173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7" name=""/>
          <p:cNvGraphicFramePr/>
          <p:nvPr/>
        </p:nvGraphicFramePr>
        <p:xfrm>
          <a:off x="3657600" y="1828800"/>
          <a:ext cx="1947960" cy="2286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8" name="" descr="">
                    <a:hlinkClick r:id="rId10" action="ppaction://hlinksldjump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657600" y="1828800"/>
                    <a:ext cx="194796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09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858000" y="1752480"/>
            <a:ext cx="1676520" cy="123840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3505320"/>
            <a:ext cx="46656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aiandra GD"/>
              </a:rPr>
              <a:t>A</a:t>
            </a:r>
            <a:endParaRPr b="1" lang="en-US" sz="5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aiandra GD"/>
              <a:ea typeface="Maiandra GD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152280" y="5181480"/>
            <a:ext cx="466920" cy="8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aiandra GD"/>
              </a:rPr>
              <a:t>D</a:t>
            </a:r>
            <a:endParaRPr b="1" lang="en-US" sz="5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aiandra GD"/>
              <a:ea typeface="Maiandra GD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6858000" y="4419720"/>
            <a:ext cx="46656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aiandra GD"/>
              </a:rPr>
              <a:t>F</a:t>
            </a:r>
            <a:endParaRPr b="1" lang="en-US" sz="5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aiandra GD"/>
              <a:ea typeface="Maiandra GD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572000" y="4724280"/>
            <a:ext cx="466560" cy="8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aiandra GD"/>
              </a:rPr>
              <a:t>E</a:t>
            </a:r>
            <a:endParaRPr b="1" lang="en-US" sz="5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aiandra GD"/>
              <a:ea typeface="Maiandra GD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6477120" y="2590920"/>
            <a:ext cx="46656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aiandra GD"/>
              </a:rPr>
              <a:t>C</a:t>
            </a:r>
            <a:endParaRPr b="1" lang="en-US" sz="5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aiandra GD"/>
              <a:ea typeface="Maiandra GD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2971800" y="2590920"/>
            <a:ext cx="46656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aiandra GD"/>
              </a:rPr>
              <a:t>B</a:t>
            </a:r>
            <a:endParaRPr b="1" lang="en-US" sz="5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aiandra GD"/>
              <a:ea typeface="Maiandra GD"/>
            </a:endParaRPr>
          </a:p>
        </p:txBody>
      </p:sp>
      <p:sp>
        <p:nvSpPr>
          <p:cNvPr id="416" name=""/>
          <p:cNvSpPr/>
          <p:nvPr/>
        </p:nvSpPr>
        <p:spPr>
          <a:xfrm>
            <a:off x="380880" y="1066680"/>
            <a:ext cx="449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cc6600"/>
                </a:solidFill>
                <a:latin typeface="Times New Roman"/>
              </a:rPr>
              <a:t>Il pleut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 rot="21082200">
            <a:off x="990720" y="1828800"/>
            <a:ext cx="7010280" cy="28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Bravo!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8" name=""/>
          <p:cNvSpPr/>
          <p:nvPr/>
        </p:nvSpPr>
        <p:spPr>
          <a:xfrm>
            <a:off x="7315200" y="5334120"/>
            <a:ext cx="1143000" cy="99036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4928" h="21600">
                <a:moveTo>
                  <a:pt x="0" y="0"/>
                </a:moveTo>
                <a:lnTo>
                  <a:pt x="24928" y="0"/>
                </a:lnTo>
                <a:lnTo>
                  <a:pt x="24928" y="21600"/>
                </a:lnTo>
                <a:lnTo>
                  <a:pt x="0" y="21600"/>
                </a:lnTo>
                <a:close/>
              </a:path>
              <a:path fill="lightenLess" w="24928" h="21600">
                <a:moveTo>
                  <a:pt x="0" y="0"/>
                </a:moveTo>
                <a:lnTo>
                  <a:pt x="24928" y="0"/>
                </a:lnTo>
                <a:lnTo>
                  <a:pt x="23528" y="1400"/>
                </a:lnTo>
                <a:lnTo>
                  <a:pt x="1400" y="1400"/>
                </a:lnTo>
                <a:close/>
              </a:path>
              <a:path fill="darken" w="24928" h="21600">
                <a:moveTo>
                  <a:pt x="24928" y="0"/>
                </a:moveTo>
                <a:lnTo>
                  <a:pt x="24928" y="21600"/>
                </a:lnTo>
                <a:lnTo>
                  <a:pt x="23528" y="20200"/>
                </a:lnTo>
                <a:lnTo>
                  <a:pt x="23528" y="1400"/>
                </a:lnTo>
                <a:close/>
              </a:path>
              <a:path fill="darkenLess" w="24928" h="21600">
                <a:moveTo>
                  <a:pt x="249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8" y="20200"/>
                </a:lnTo>
                <a:close/>
              </a:path>
              <a:path fill="lighten" w="249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28" h="21600">
                <a:moveTo>
                  <a:pt x="5457" y="3794"/>
                </a:moveTo>
                <a:lnTo>
                  <a:pt x="19470" y="10800"/>
                </a:lnTo>
                <a:lnTo>
                  <a:pt x="5457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2133720" y="3429000"/>
            <a:ext cx="4276440" cy="16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Essaie encore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4419720" y="1925640"/>
            <a:ext cx="3562200" cy="239220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533520" y="556272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13610" y="10800"/>
                </a:moveTo>
                <a:lnTo>
                  <a:pt x="27623" y="3794"/>
                </a:lnTo>
                <a:lnTo>
                  <a:pt x="27623" y="17806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33520" y="3809880"/>
            <a:ext cx="1676160" cy="12384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1401840" cy="150804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3505320" y="1219320"/>
            <a:ext cx="1112760" cy="18064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5867280" y="4267080"/>
            <a:ext cx="2590920" cy="173700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5"/>
          <a:stretch/>
        </p:blipFill>
        <p:spPr>
          <a:xfrm>
            <a:off x="5715000" y="1447920"/>
            <a:ext cx="1992240" cy="1896840"/>
          </a:xfrm>
          <a:prstGeom prst="rect">
            <a:avLst/>
          </a:prstGeom>
          <a:ln w="0">
            <a:noFill/>
          </a:ln>
        </p:spPr>
      </p:pic>
      <p:sp>
        <p:nvSpPr>
          <p:cNvPr id="331" name="">
            <a:hlinkClick r:id="rId6" action="ppaction://hlinksldjump"/>
          </p:cNvPr>
          <p:cNvSpPr/>
          <p:nvPr/>
        </p:nvSpPr>
        <p:spPr>
          <a:xfrm>
            <a:off x="1676520" y="4495680"/>
            <a:ext cx="2057400" cy="1828800"/>
          </a:xfrm>
          <a:custGeom>
            <a:avLst/>
            <a:gdLst>
              <a:gd name="textAreaLeft" fmla="*/ 118440 w 2057400"/>
              <a:gd name="textAreaRight" fmla="*/ 1938960 w 205740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4299" h="21600">
                <a:moveTo>
                  <a:pt x="0" y="0"/>
                </a:moveTo>
                <a:lnTo>
                  <a:pt x="24299" y="0"/>
                </a:lnTo>
                <a:lnTo>
                  <a:pt x="24299" y="21600"/>
                </a:lnTo>
                <a:lnTo>
                  <a:pt x="0" y="21600"/>
                </a:lnTo>
                <a:close/>
              </a:path>
              <a:path fill="lightenLess" w="24299" h="21600">
                <a:moveTo>
                  <a:pt x="0" y="0"/>
                </a:moveTo>
                <a:lnTo>
                  <a:pt x="24299" y="0"/>
                </a:lnTo>
                <a:lnTo>
                  <a:pt x="22900" y="1400"/>
                </a:lnTo>
                <a:lnTo>
                  <a:pt x="1400" y="1400"/>
                </a:lnTo>
                <a:close/>
              </a:path>
              <a:path fill="darken" w="24299" h="21600">
                <a:moveTo>
                  <a:pt x="24299" y="0"/>
                </a:moveTo>
                <a:lnTo>
                  <a:pt x="24299" y="21600"/>
                </a:lnTo>
                <a:lnTo>
                  <a:pt x="22900" y="20200"/>
                </a:lnTo>
                <a:lnTo>
                  <a:pt x="22900" y="1400"/>
                </a:lnTo>
                <a:close/>
              </a:path>
              <a:path fill="darkenLess" w="24299" h="21600">
                <a:moveTo>
                  <a:pt x="242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0" y="20200"/>
                </a:lnTo>
                <a:close/>
              </a:path>
              <a:path fill="lighten" w="242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743200" y="3962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>
            <a:hlinkClick r:id="rId7" action="ppaction://hlinksldjump"/>
          </p:cNvPr>
          <p:cNvSpPr/>
          <p:nvPr/>
        </p:nvSpPr>
        <p:spPr>
          <a:xfrm>
            <a:off x="1676520" y="4486320"/>
            <a:ext cx="2057400" cy="1838160"/>
          </a:xfrm>
          <a:custGeom>
            <a:avLst/>
            <a:gdLst>
              <a:gd name="textAreaLeft" fmla="*/ 118800 w 2057400"/>
              <a:gd name="textAreaRight" fmla="*/ 1938600 w 2057400"/>
              <a:gd name="textAreaTop" fmla="*/ 118800 h 1838160"/>
              <a:gd name="textAreaBottom" fmla="*/ 1719360 h 1838160"/>
            </a:gdLst>
            <a:ahLst/>
            <a:rect l="textAreaLeft" t="textAreaTop" r="textAreaRight" b="textAreaBottom"/>
            <a:pathLst>
              <a:path w="24176" h="21600">
                <a:moveTo>
                  <a:pt x="0" y="0"/>
                </a:moveTo>
                <a:lnTo>
                  <a:pt x="24176" y="0"/>
                </a:lnTo>
                <a:lnTo>
                  <a:pt x="24176" y="21600"/>
                </a:lnTo>
                <a:lnTo>
                  <a:pt x="0" y="21600"/>
                </a:lnTo>
                <a:close/>
              </a:path>
              <a:path fill="lightenLess" w="24176" h="21600">
                <a:moveTo>
                  <a:pt x="0" y="0"/>
                </a:moveTo>
                <a:lnTo>
                  <a:pt x="24176" y="0"/>
                </a:lnTo>
                <a:lnTo>
                  <a:pt x="22776" y="1400"/>
                </a:lnTo>
                <a:lnTo>
                  <a:pt x="1400" y="1400"/>
                </a:lnTo>
                <a:close/>
              </a:path>
              <a:path fill="darken" w="24176" h="21600">
                <a:moveTo>
                  <a:pt x="24176" y="0"/>
                </a:moveTo>
                <a:lnTo>
                  <a:pt x="24176" y="21600"/>
                </a:lnTo>
                <a:lnTo>
                  <a:pt x="22776" y="20200"/>
                </a:lnTo>
                <a:lnTo>
                  <a:pt x="22776" y="1400"/>
                </a:lnTo>
                <a:close/>
              </a:path>
              <a:path fill="darkenLess" w="24176" h="21600">
                <a:moveTo>
                  <a:pt x="24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76" y="20200"/>
                </a:lnTo>
                <a:close/>
              </a:path>
              <a:path fill="lighten" w="24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8"/>
          <a:stretch/>
        </p:blipFill>
        <p:spPr>
          <a:xfrm>
            <a:off x="2819520" y="3962520"/>
            <a:ext cx="19476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9" dur="1" fill="hold">
                                    <p:stCondLst>
                                      <p:cond evt="end">
                                        <p:tn val="35"/>
                                      </p:cond>
                                    </p:stCondLst>
                                  </p:cTn>
                                  <p:tgtEl>
                                    <p:spTgt spid="3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339966"/>
                </a:solidFill>
                <a:latin typeface="Times New Roman"/>
              </a:rPr>
              <a:t>Quel temps fait-il?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7391520" y="4800600"/>
            <a:ext cx="1401480" cy="150804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5181480" y="4648320"/>
            <a:ext cx="1113120" cy="180648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3"/>
          <a:stretch/>
        </p:blipFill>
        <p:spPr>
          <a:xfrm>
            <a:off x="380880" y="2057400"/>
            <a:ext cx="1992600" cy="189720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4"/>
          <a:stretch/>
        </p:blipFill>
        <p:spPr>
          <a:xfrm>
            <a:off x="762120" y="4800600"/>
            <a:ext cx="2590560" cy="173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7" name=""/>
          <p:cNvGraphicFramePr/>
          <p:nvPr/>
        </p:nvGraphicFramePr>
        <p:xfrm>
          <a:off x="3657600" y="1828800"/>
          <a:ext cx="1947960" cy="228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8" name="" descr="">
                    <a:hlinkClick r:id="rId6" action="ppaction://hlinksldjump"/>
                  </p:cNvPr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657600" y="1828800"/>
                    <a:ext cx="194796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2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858000" y="1752480"/>
            <a:ext cx="1676520" cy="123840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304920" y="3505320"/>
            <a:ext cx="46656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aiandra GD"/>
              </a:rPr>
              <a:t>A</a:t>
            </a:r>
            <a:endParaRPr b="1" lang="en-US" sz="5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aiandra GD"/>
              <a:ea typeface="Maiandra GD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152280" y="5181480"/>
            <a:ext cx="466920" cy="8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aiandra GD"/>
              </a:rPr>
              <a:t>D</a:t>
            </a:r>
            <a:endParaRPr b="1" lang="en-US" sz="5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aiandra GD"/>
              <a:ea typeface="Maiandra GD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6858000" y="4419720"/>
            <a:ext cx="46656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aiandra GD"/>
              </a:rPr>
              <a:t>F</a:t>
            </a:r>
            <a:endParaRPr b="1" lang="en-US" sz="5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aiandra GD"/>
              <a:ea typeface="Maiandra GD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0" y="4724280"/>
            <a:ext cx="466560" cy="8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aiandra GD"/>
              </a:rPr>
              <a:t>E</a:t>
            </a:r>
            <a:endParaRPr b="1" lang="en-US" sz="5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aiandra GD"/>
              <a:ea typeface="Maiandra GD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6477120" y="2590920"/>
            <a:ext cx="46656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aiandra GD"/>
              </a:rPr>
              <a:t>C</a:t>
            </a:r>
            <a:endParaRPr b="1" lang="en-US" sz="5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aiandra GD"/>
              <a:ea typeface="Maiandra GD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2971800" y="2590920"/>
            <a:ext cx="46656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aiandra GD"/>
              </a:rPr>
              <a:t>B</a:t>
            </a:r>
            <a:endParaRPr b="1" lang="en-US" sz="5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aiandra GD"/>
              <a:ea typeface="Maiandra GD"/>
            </a:endParaRPr>
          </a:p>
        </p:txBody>
      </p:sp>
      <p:sp>
        <p:nvSpPr>
          <p:cNvPr id="436" name=""/>
          <p:cNvSpPr/>
          <p:nvPr/>
        </p:nvSpPr>
        <p:spPr>
          <a:xfrm>
            <a:off x="380880" y="106668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cc6600"/>
                </a:solidFill>
                <a:latin typeface="Times New Roman"/>
              </a:rPr>
              <a:t>Il y a du brouillard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 rot="21082200">
            <a:off x="990720" y="1828800"/>
            <a:ext cx="7010280" cy="28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Bravo!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8" name=""/>
          <p:cNvSpPr/>
          <p:nvPr/>
        </p:nvSpPr>
        <p:spPr>
          <a:xfrm>
            <a:off x="6858000" y="5562720"/>
            <a:ext cx="1295280" cy="838080"/>
          </a:xfrm>
          <a:custGeom>
            <a:avLst/>
            <a:gdLst>
              <a:gd name="textAreaLeft" fmla="*/ 54000 w 1295280"/>
              <a:gd name="textAreaRight" fmla="*/ 1241280 w 12952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3378" h="21600">
                <a:moveTo>
                  <a:pt x="0" y="0"/>
                </a:moveTo>
                <a:lnTo>
                  <a:pt x="33378" y="0"/>
                </a:lnTo>
                <a:lnTo>
                  <a:pt x="33378" y="21600"/>
                </a:lnTo>
                <a:lnTo>
                  <a:pt x="0" y="21600"/>
                </a:lnTo>
                <a:close/>
              </a:path>
              <a:path fill="lightenLess" w="33378" h="21600">
                <a:moveTo>
                  <a:pt x="0" y="0"/>
                </a:moveTo>
                <a:lnTo>
                  <a:pt x="33378" y="0"/>
                </a:lnTo>
                <a:lnTo>
                  <a:pt x="31978" y="1400"/>
                </a:lnTo>
                <a:lnTo>
                  <a:pt x="1400" y="1400"/>
                </a:lnTo>
                <a:close/>
              </a:path>
              <a:path fill="darken" w="33378" h="21600">
                <a:moveTo>
                  <a:pt x="33378" y="0"/>
                </a:moveTo>
                <a:lnTo>
                  <a:pt x="33378" y="21600"/>
                </a:lnTo>
                <a:lnTo>
                  <a:pt x="31978" y="20200"/>
                </a:lnTo>
                <a:lnTo>
                  <a:pt x="31978" y="1400"/>
                </a:lnTo>
                <a:close/>
              </a:path>
              <a:path fill="darkenLess" w="33378" h="21600">
                <a:moveTo>
                  <a:pt x="33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78" y="20200"/>
                </a:lnTo>
                <a:close/>
              </a:path>
              <a:path fill="lighten" w="33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78" h="21600">
                <a:moveTo>
                  <a:pt x="9683" y="3794"/>
                </a:moveTo>
                <a:lnTo>
                  <a:pt x="23696" y="10800"/>
                </a:lnTo>
                <a:lnTo>
                  <a:pt x="9683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2133720" y="3429000"/>
            <a:ext cx="4276440" cy="16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Essaie encore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4419720" y="1925640"/>
            <a:ext cx="3562200" cy="239220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533520" y="5486400"/>
            <a:ext cx="1447560" cy="838080"/>
          </a:xfrm>
          <a:custGeom>
            <a:avLst/>
            <a:gdLst>
              <a:gd name="textAreaLeft" fmla="*/ 54000 w 1447560"/>
              <a:gd name="textAreaRight" fmla="*/ 1393560 w 14475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02" h="21600">
                <a:moveTo>
                  <a:pt x="0" y="0"/>
                </a:moveTo>
                <a:lnTo>
                  <a:pt x="37302" y="0"/>
                </a:lnTo>
                <a:lnTo>
                  <a:pt x="37302" y="21600"/>
                </a:lnTo>
                <a:lnTo>
                  <a:pt x="0" y="21600"/>
                </a:lnTo>
                <a:close/>
              </a:path>
              <a:path fill="lightenLess" w="37302" h="21600">
                <a:moveTo>
                  <a:pt x="0" y="0"/>
                </a:moveTo>
                <a:lnTo>
                  <a:pt x="37302" y="0"/>
                </a:lnTo>
                <a:lnTo>
                  <a:pt x="35902" y="1400"/>
                </a:lnTo>
                <a:lnTo>
                  <a:pt x="1400" y="1400"/>
                </a:lnTo>
                <a:close/>
              </a:path>
              <a:path fill="darken" w="37302" h="21600">
                <a:moveTo>
                  <a:pt x="37302" y="0"/>
                </a:moveTo>
                <a:lnTo>
                  <a:pt x="37302" y="21600"/>
                </a:lnTo>
                <a:lnTo>
                  <a:pt x="35902" y="20200"/>
                </a:lnTo>
                <a:lnTo>
                  <a:pt x="35902" y="1400"/>
                </a:lnTo>
                <a:close/>
              </a:path>
              <a:path fill="darkenLess" w="37302" h="21600">
                <a:moveTo>
                  <a:pt x="373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02" y="20200"/>
                </a:lnTo>
                <a:close/>
              </a:path>
              <a:path fill="lighten" w="373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02" h="21600">
                <a:moveTo>
                  <a:pt x="11644" y="10800"/>
                </a:moveTo>
                <a:lnTo>
                  <a:pt x="25657" y="3794"/>
                </a:lnTo>
                <a:lnTo>
                  <a:pt x="25657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4267080" y="1981080"/>
            <a:ext cx="4324320" cy="4291200"/>
          </a:xfrm>
          <a:prstGeom prst="rect">
            <a:avLst/>
          </a:prstGeom>
          <a:ln w="0">
            <a:noFill/>
          </a:ln>
        </p:spPr>
      </p:pic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cc6600"/>
                </a:solidFill>
                <a:latin typeface="Times New Roman"/>
              </a:rPr>
              <a:t>La Météo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2860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339966"/>
                </a:solidFill>
                <a:latin typeface="Times New Roman"/>
              </a:rPr>
              <a:t>Quel temps fait-i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28600" y="1981080"/>
            <a:ext cx="37339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00000"/>
                </a:solidFill>
                <a:latin typeface="Times New Roman"/>
              </a:rPr>
              <a:t>En Ecosse, ….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4920" y="2895480"/>
            <a:ext cx="39621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00000"/>
                </a:solidFill>
                <a:latin typeface="Times New Roman"/>
              </a:rPr>
              <a:t>En Irlande, ….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0" y="4724280"/>
            <a:ext cx="60958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00000"/>
                </a:solidFill>
                <a:latin typeface="Times New Roman"/>
              </a:rPr>
              <a:t>Au Pays de Galles, ….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28600" y="3809880"/>
            <a:ext cx="44956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00000"/>
                </a:solidFill>
                <a:latin typeface="Times New Roman"/>
              </a:rPr>
              <a:t>En Angleterre,..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657600" y="2362320"/>
            <a:ext cx="2819520" cy="380880"/>
          </a:xfrm>
          <a:prstGeom prst="line">
            <a:avLst/>
          </a:prstGeom>
          <a:ln w="5724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3875040" y="5239440"/>
            <a:ext cx="2733840" cy="271800"/>
          </a:xfrm>
          <a:prstGeom prst="line">
            <a:avLst/>
          </a:prstGeom>
          <a:ln w="57240">
            <a:solidFill>
              <a:srgbClr val="3399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798360" y="4395600"/>
            <a:ext cx="3607920" cy="130320"/>
          </a:xfrm>
          <a:prstGeom prst="line">
            <a:avLst/>
          </a:prstGeom>
          <a:ln w="57240">
            <a:solidFill>
              <a:srgbClr val="0000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158640" y="3550680"/>
            <a:ext cx="2140560" cy="595440"/>
          </a:xfrm>
          <a:prstGeom prst="line">
            <a:avLst/>
          </a:prstGeom>
          <a:ln w="57240">
            <a:solidFill>
              <a:srgbClr val="3366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2"/>
          <a:stretch/>
        </p:blipFill>
        <p:spPr>
          <a:xfrm>
            <a:off x="5334120" y="3429000"/>
            <a:ext cx="834840" cy="89856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3"/>
          <a:stretch/>
        </p:blipFill>
        <p:spPr>
          <a:xfrm>
            <a:off x="6553080" y="1143000"/>
            <a:ext cx="1113120" cy="180648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4"/>
          <a:stretch/>
        </p:blipFill>
        <p:spPr>
          <a:xfrm>
            <a:off x="7315200" y="4648320"/>
            <a:ext cx="914400" cy="86976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5"/>
          <a:stretch/>
        </p:blipFill>
        <p:spPr>
          <a:xfrm>
            <a:off x="6477120" y="4724280"/>
            <a:ext cx="552240" cy="59400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6"/>
          <a:stretch/>
        </p:blipFill>
        <p:spPr>
          <a:xfrm>
            <a:off x="6705720" y="297180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3048120" y="2209680"/>
            <a:ext cx="3485880" cy="346896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 txBox="1"/>
          <p:nvPr/>
        </p:nvSpPr>
        <p:spPr>
          <a:xfrm>
            <a:off x="4343400" y="1219320"/>
            <a:ext cx="657360" cy="11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Jokerman"/>
              </a:rPr>
              <a:t>N</a:t>
            </a:r>
            <a:endParaRPr b="0" lang="en-US" sz="60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Jokerman"/>
              <a:ea typeface="Joker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6553080" y="3429000"/>
            <a:ext cx="657360" cy="11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Jokerman"/>
              </a:rPr>
              <a:t>E</a:t>
            </a:r>
            <a:endParaRPr b="0" lang="en-US" sz="60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Jokerman"/>
              <a:ea typeface="Joker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419720" y="5562720"/>
            <a:ext cx="657000" cy="11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Jokerman"/>
              </a:rPr>
              <a:t>S</a:t>
            </a:r>
            <a:endParaRPr b="0" lang="en-US" sz="60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Jokerman"/>
              <a:ea typeface="Joker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2286000" y="3200400"/>
            <a:ext cx="657360" cy="12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Jokerman"/>
              </a:rPr>
              <a:t>O</a:t>
            </a:r>
            <a:endParaRPr b="0" lang="en-US" sz="60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Jokerman"/>
              <a:ea typeface="Jokerman"/>
            </a:endParaRPr>
          </a:p>
        </p:txBody>
      </p:sp>
      <p:sp>
        <p:nvSpPr>
          <p:cNvPr id="463" name=""/>
          <p:cNvSpPr/>
          <p:nvPr/>
        </p:nvSpPr>
        <p:spPr>
          <a:xfrm>
            <a:off x="5562720" y="1143000"/>
            <a:ext cx="1904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Showcard Gothic"/>
              </a:rPr>
              <a:t>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howcard Gothic"/>
              </a:rPr>
              <a:t>NOR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28600" y="3124080"/>
            <a:ext cx="190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Showcard Gothic"/>
              </a:rPr>
              <a:t>L’OUES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0120" y="34290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Showcard Gothic"/>
              </a:rPr>
              <a:t>L’ES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514600" y="5791320"/>
            <a:ext cx="16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Showcard Gothic"/>
              </a:rPr>
              <a:t>LE SU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5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0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1214280" y="-146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cc6600"/>
                </a:solidFill>
                <a:latin typeface="Times New Roman"/>
              </a:rPr>
              <a:t>La Météo en Fr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28600" y="990720"/>
            <a:ext cx="3200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 France, il y a des orages dans le nord. Dans le sud, il fait chaud et il y a du soleil. Dans les Alpes, il fait froid et il neige. Dans l’ouest, il y a du brouillard et du vent. Dans le centre, il ple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3276720" y="5867280"/>
            <a:ext cx="838080" cy="78912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1828800" y="5867280"/>
            <a:ext cx="990720" cy="83196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3"/>
          <a:stretch/>
        </p:blipFill>
        <p:spPr>
          <a:xfrm>
            <a:off x="457200" y="5867280"/>
            <a:ext cx="914400" cy="80496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4"/>
          <a:stretch/>
        </p:blipFill>
        <p:spPr>
          <a:xfrm>
            <a:off x="2971800" y="4876920"/>
            <a:ext cx="876240" cy="65700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5"/>
          <a:stretch/>
        </p:blipFill>
        <p:spPr>
          <a:xfrm>
            <a:off x="1676520" y="4800600"/>
            <a:ext cx="838080" cy="74628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6"/>
          <a:stretch/>
        </p:blipFill>
        <p:spPr>
          <a:xfrm>
            <a:off x="380880" y="4724280"/>
            <a:ext cx="838440" cy="80496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 txBox="1"/>
          <p:nvPr/>
        </p:nvSpPr>
        <p:spPr>
          <a:xfrm>
            <a:off x="228600" y="4495680"/>
            <a:ext cx="2001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a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2819520" y="4648320"/>
            <a:ext cx="199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c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1447920" y="4572000"/>
            <a:ext cx="199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b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228600" y="5715000"/>
            <a:ext cx="200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d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1676520" y="5715000"/>
            <a:ext cx="199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e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3048120" y="5562720"/>
            <a:ext cx="35244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f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4156200" y="1219320"/>
          <a:ext cx="4149720" cy="4876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56200" y="1219320"/>
                    <a:ext cx="414972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8381880" y="914400"/>
          <a:ext cx="546120" cy="1117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381880" y="914400"/>
                    <a:ext cx="546120" cy="11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6" name=""/>
          <p:cNvGraphicFramePr/>
          <p:nvPr/>
        </p:nvGraphicFramePr>
        <p:xfrm>
          <a:off x="8458200" y="5486400"/>
          <a:ext cx="393840" cy="1028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458200" y="5486400"/>
                    <a:ext cx="39384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8" name=""/>
          <p:cNvSpPr txBox="1"/>
          <p:nvPr/>
        </p:nvSpPr>
        <p:spPr>
          <a:xfrm>
            <a:off x="4343400" y="3048120"/>
            <a:ext cx="657360" cy="12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Jokerman"/>
              </a:rPr>
              <a:t>O</a:t>
            </a:r>
            <a:endParaRPr b="0" lang="en-US" sz="60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Jokerman"/>
              <a:ea typeface="Joker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6248520" y="228600"/>
            <a:ext cx="657000" cy="11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Jokerman"/>
              </a:rPr>
              <a:t>N</a:t>
            </a:r>
            <a:endParaRPr b="0" lang="en-US" sz="60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Jokerman"/>
              <a:ea typeface="Joker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8486640" y="3048120"/>
            <a:ext cx="657360" cy="11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Jokerman"/>
              </a:rPr>
              <a:t>E</a:t>
            </a:r>
            <a:endParaRPr b="0" lang="en-US" sz="60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Jokerman"/>
              <a:ea typeface="Joker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6400800" y="5410080"/>
            <a:ext cx="657360" cy="11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Jokerman"/>
              </a:rPr>
              <a:t>S</a:t>
            </a:r>
            <a:endParaRPr b="0" lang="en-US" sz="60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Jokerman"/>
              <a:ea typeface="Joker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2" name=""/>
          <p:cNvGraphicFramePr/>
          <p:nvPr/>
        </p:nvGraphicFramePr>
        <p:xfrm>
          <a:off x="457200" y="1523880"/>
          <a:ext cx="3666960" cy="443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366696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4" name=""/>
          <p:cNvGraphicFramePr/>
          <p:nvPr/>
        </p:nvGraphicFramePr>
        <p:xfrm>
          <a:off x="4800600" y="914400"/>
          <a:ext cx="4114800" cy="533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914400"/>
                    <a:ext cx="41148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600" spc="-1" strike="noStrike">
                <a:solidFill>
                  <a:srgbClr val="cc6600"/>
                </a:solidFill>
                <a:latin typeface="Times New Roman"/>
              </a:rPr>
              <a:t>Rappel</a:t>
            </a:r>
            <a:endParaRPr b="0" i="1" lang="en-US" sz="56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5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7" name=""/>
          <p:cNvGraphicFramePr/>
          <p:nvPr/>
        </p:nvGraphicFramePr>
        <p:xfrm>
          <a:off x="2514600" y="914400"/>
          <a:ext cx="4797360" cy="56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914400"/>
                    <a:ext cx="479736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9" name="" descr=""/>
          <p:cNvPicPr/>
          <p:nvPr/>
        </p:nvPicPr>
        <p:blipFill>
          <a:blip r:embed="rId3"/>
          <a:stretch/>
        </p:blipFill>
        <p:spPr>
          <a:xfrm>
            <a:off x="5715000" y="5029200"/>
            <a:ext cx="838080" cy="80496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4"/>
          <a:stretch/>
        </p:blipFill>
        <p:spPr>
          <a:xfrm>
            <a:off x="4876920" y="1219320"/>
            <a:ext cx="838080" cy="74592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5"/>
          <a:stretch/>
        </p:blipFill>
        <p:spPr>
          <a:xfrm>
            <a:off x="4648320" y="3733920"/>
            <a:ext cx="914400" cy="80460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6"/>
          <a:stretch/>
        </p:blipFill>
        <p:spPr>
          <a:xfrm>
            <a:off x="6095880" y="3505320"/>
            <a:ext cx="990720" cy="83160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7"/>
          <a:stretch/>
        </p:blipFill>
        <p:spPr>
          <a:xfrm>
            <a:off x="2895480" y="1981080"/>
            <a:ext cx="838440" cy="78912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8"/>
          <a:stretch/>
        </p:blipFill>
        <p:spPr>
          <a:xfrm>
            <a:off x="3657600" y="2514600"/>
            <a:ext cx="876240" cy="657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5" name=""/>
          <p:cNvGraphicFramePr/>
          <p:nvPr/>
        </p:nvGraphicFramePr>
        <p:xfrm>
          <a:off x="6553080" y="4952880"/>
          <a:ext cx="393840" cy="1028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53080" y="4952880"/>
                    <a:ext cx="39384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7" name=""/>
          <p:cNvGraphicFramePr/>
          <p:nvPr/>
        </p:nvGraphicFramePr>
        <p:xfrm>
          <a:off x="7086600" y="3505320"/>
          <a:ext cx="409680" cy="838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0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086600" y="3505320"/>
                    <a:ext cx="4096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9" name="" descr=""/>
          <p:cNvPicPr/>
          <p:nvPr/>
        </p:nvPicPr>
        <p:blipFill>
          <a:blip r:embed="rId13"/>
          <a:stretch/>
        </p:blipFill>
        <p:spPr>
          <a:xfrm>
            <a:off x="380880" y="4572000"/>
            <a:ext cx="1828800" cy="1819440"/>
          </a:xfrm>
          <a:prstGeom prst="rect">
            <a:avLst/>
          </a:prstGeom>
          <a:ln w="0">
            <a:noFill/>
          </a:ln>
        </p:spPr>
      </p:pic>
      <p:sp>
        <p:nvSpPr>
          <p:cNvPr id="510" name=""/>
          <p:cNvSpPr txBox="1"/>
          <p:nvPr/>
        </p:nvSpPr>
        <p:spPr>
          <a:xfrm>
            <a:off x="1066680" y="3886200"/>
            <a:ext cx="381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990720" y="2021040"/>
            <a:ext cx="2590560" cy="246672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6095880" y="243828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Verdana"/>
              </a:rPr>
              <a:t>du solei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191120" y="24382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I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24382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562720" y="243828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990720" y="2133720"/>
            <a:ext cx="2662200" cy="312408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6324480" y="243828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Verdana"/>
              </a:rPr>
              <a:t>du ve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243828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I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257800" y="243828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91320" y="243828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3353040" cy="247320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5486400" y="4343400"/>
            <a:ext cx="3124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Verdana"/>
              </a:rPr>
              <a:t>brouillard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133720" y="4343400"/>
            <a:ext cx="761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124080" y="4343400"/>
            <a:ext cx="1143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y a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419720" y="4343400"/>
            <a:ext cx="990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Verdana"/>
              </a:rPr>
              <a:t>du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3810240" cy="396216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4343400" y="2438280"/>
            <a:ext cx="5257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Verdana"/>
              </a:rPr>
              <a:t>Il y a des orages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2832120" cy="304812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6095880" y="2438280"/>
            <a:ext cx="22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Verdana"/>
              </a:rPr>
              <a:t>pleu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181480" y="24382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I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2284200" cy="371160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6248520" y="243828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Verdana"/>
              </a:rPr>
              <a:t>nei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29200" y="243828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I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3270240" cy="3106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4191120" y="243828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Verdana"/>
              </a:rPr>
              <a:t>Il fait froi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1T15:37:07Z</dcterms:created>
  <dc:creator>Bowdelo</dc:creator>
  <dc:description/>
  <dc:language>en-US</dc:language>
  <cp:lastModifiedBy>MANUEL</cp:lastModifiedBy>
  <dcterms:modified xsi:type="dcterms:W3CDTF">2008-04-14T21:46:19Z</dcterms:modified>
  <cp:revision>13</cp:revision>
  <dc:subject/>
  <dc:title>PowerPoint Presentation</dc:title>
</cp:coreProperties>
</file>